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02C1AFF-08B8-421C-B1D1-8A051BA0C7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IT Kolledzh/TTÜ 2005        T.Tammet     IT sissejuhatus loeng 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19227AE-EF6F-47B5-8C33-4F15F286ED6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49640" y="2057400"/>
            <a:ext cx="253980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a: nominalistide ja realistide dihhotoom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``arutlemise aritmeetika'’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1846440"/>
            <a:ext cx="3429000" cy="77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048120" y="437976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06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tk eelmisest lo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käeline näiterobo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egade algus - teine maailmasõ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2895480" y="1063800"/>
            <a:ext cx="1800" cy="427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419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280" y="3733920"/>
            <a:ext cx="24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3048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duktsioon jm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286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ist järku pred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16002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rgemat järku pred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396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520" y="464832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410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410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5410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5344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ttemonoto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254560" y="2209680"/>
            <a:ext cx="122544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0: vaakumd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e de Forest: 1906: vaakumtrioo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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(A =&gt; B) =&gt; A) =&gt; A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2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7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4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41-1944: Z3, Z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leedega digitaalarvut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Geheimfernschreiber</a:t>
            </a:r>
            <a:r>
              <a:rPr b="1" lang="en-GB" sz="2400" spc="-1" strike="noStrike">
                <a:solidFill>
                  <a:srgbClr val="80808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 töötas välja Alan Turing, kes varem juhtis lihtsama ENIGMA dekodeeri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oogika ja arvutamine on väga tihedalt seotu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6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.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õeldav ja mittemõeldav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kõik inimesed on surelikud ja kui mina olen inimene, siis ma olen surelik''.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kõik inimesed on surelikud ja kui mina olen inimene, siis ma ei ole surelik''.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Vastaspoolused: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Puhta loogika eesmärk on olla õige kõigis võimalikes maailmades, mitte ainult selles veider-segases vaevarikkas maailmas, kuhu juhus meid on heitnud. Loogik peab eneses alal hoidma teatud annuse jumalikkust: ta ei tohi alanduda selleni, et teha järeldusi enese ümber nähtust.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Bitstream Vera Sans"/>
              </a:rPr>
              <a:t>B.Russell, ``Sissejuhatus matemaatilisse filosoofiasse''.</a:t>
            </a: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Kui loogika oleks olemas isegi juhul, kui maailma ei oleks, siis kuidas saab loogika olemas olla olukorras, kus maailm on olemas?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Bitstream Vera Sans"/>
              </a:rPr>
              <a:t>L.Wittgenstein, ``Tractatus Logico-Philosophicus''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3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A ja B, siis A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ei ole tõsi, et A ja mitte A'’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A-st järeldub B, ning A on tõsi, siis ka B on tõsi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``Kui kõigil asjadel on omadus P, siis on olemas asi, millel on omadus P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``Kui on olemas asi, millel on omadus P, siis on kõigil asjadel omadus P''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anarhist on süsteemi vastan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poliitikud on anarhisti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poliitikud on süsteemi vastas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Iga b on a''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Mitte ükski b pole a''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Mõni b on a''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``Mõni b ei ole a''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((A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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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korraga esimene ja teine; esimene; järelikult mitte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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